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MERA.WAV" ContentType="audio/x-wav"/>
  <Override PartName="/ppt/media/WHOOSH.WAV" ContentType="audio/x-wav"/>
  <Override PartName="/ppt/media/PROJCTOR.WAV" ContentType="audio/x-wav"/>
  <Override PartName="/ppt/media/APPLAUSE.WAV" ContentType="audio/x-wav"/>
  <Override PartName="/ppt/media/CHIMES.WAV" ContentType="audio/x-wav"/>
  <Override PartName="/ppt/media/CASHREG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823-251B-436A-9C14-D68A6988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9A22-6F53-4F5F-BF0B-6E10CD87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964C-4D13-4998-A533-8ED297B1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ED89-AB47-4DE6-A4C9-CB891962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025B-8974-444B-94EB-BB21F5FC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95D3-771C-409A-9CEB-ECC1F260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2419-1346-4B0D-944E-5638A3B6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5E79-F59B-49E2-9978-25A4BFA4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1290-BD33-4B48-8A7F-EF7A5877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E0B5-53E9-44F3-998E-AC07356C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2817-1D2C-48ED-87DD-4F3967F2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D37-4E2B-46BA-8B01-8CCA7504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225A-47A5-4EE0-9387-037839EA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B70B-C394-48DA-8BB2-A02917B6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1FA5-583D-4B51-9A04-21C8226F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37FA-1B52-424C-88DB-EA03BAEF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12A6-E0BB-43DA-B1E7-70324CF8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CB1A-3649-4BF7-802F-A4617408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B43-F92C-4546-903F-CDF96979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14D-7F0A-425A-A476-E141901A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9C3-F3D8-4CDA-B607-C5410EC2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297F-0407-48E0-A5C4-42B44203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B25-7664-4A5A-80AA-633AC52D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16DE-7ED6-4C3D-ADEC-6D667BE0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dbb7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63EF-58D8-4733-B36E-0189A3636C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dbb7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66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ACFE-88CC-4FBE-AA15-4C5B34D5B8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PROJCTOR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rial Narrow"/>
              </a:rPr>
              <a:t>SIMULTANEOUS EQUATIONS</a:t>
            </a: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52560" y="3043080"/>
            <a:ext cx="3638880" cy="7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66880" y="18284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Try questions 1 to 4 on the worksheet</a:t>
            </a: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rial Narrow"/>
              </a:rPr>
              <a:t>Substitution Method</a:t>
            </a: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13716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an be used in any situation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124080" y="1981080"/>
                <a:ext cx="35816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68480" y="2743200"/>
                <a:ext cx="39895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2133720" y="3657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Label the equations (1) and 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920" y="2057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2920" y="28195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3657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1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79720" y="42670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hoose one equation and rewrite the equation expressing one variable in terms of the other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6019920"/>
            <a:ext cx="27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From (1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191120" y="5991120"/>
                <a:ext cx="251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7086600" y="5943600"/>
            <a:ext cx="106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(1’ 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6320" y="1522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5448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ep 4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685800"/>
            <a:ext cx="480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ubstitute the new equation into the other equation in this case equation 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181480" y="228600"/>
                <a:ext cx="2667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181480" y="914400"/>
                <a:ext cx="27702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8229600" y="914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495680" y="1676520"/>
                <a:ext cx="32004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228600" y="32148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olve the equation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462560" y="2438280"/>
                <a:ext cx="3267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262480" y="2975040"/>
                <a:ext cx="2433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796000" y="3508200"/>
                <a:ext cx="21286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419880" y="3962520"/>
                <a:ext cx="1243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0" y="4068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ep 5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4586400"/>
            <a:ext cx="40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ubstitute this value back into (1’ 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448320" y="4727520"/>
                <a:ext cx="19782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8153280" y="25884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1’ 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5867280"/>
            <a:ext cx="525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refore the solution is (1, 2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19720" y="1676520"/>
            <a:ext cx="3657600" cy="60948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3429000"/>
            <a:ext cx="2590920" cy="106668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66"/>
                </a:solidFill>
                <a:latin typeface="Arial Narrow"/>
              </a:rPr>
              <a:t>Another example</a:t>
            </a:r>
            <a:endParaRPr b="1" lang="en-US" sz="3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31240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Label the equations (1) and 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0120" y="13208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21477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3124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1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824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79720" y="3886200"/>
            <a:ext cx="6629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Equation (2) already expresses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n terms of </a:t>
            </a:r>
            <a:r>
              <a:rPr b="0" i="1" lang="en-US" sz="3000" spc="-1" strike="noStrike">
                <a:solidFill>
                  <a:srgbClr val="0099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203640" y="1628640"/>
                <a:ext cx="381636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6320" y="380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2362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ep 4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83664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ubstitute equation (2) into equation (1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152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379760" y="1676520"/>
                <a:ext cx="34340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28600" y="29718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olve the equation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746600" y="2438280"/>
                <a:ext cx="31003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592600" y="2975040"/>
                <a:ext cx="23320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381720" y="3508200"/>
                <a:ext cx="1428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605640" y="3962520"/>
                <a:ext cx="1243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0" y="4068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ep 5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4586400"/>
            <a:ext cx="40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ubstitute this value back into (2 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711840" y="4648320"/>
                <a:ext cx="21272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3581280" y="5867280"/>
            <a:ext cx="525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refore the solution is (3, 1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952880" y="870120"/>
                <a:ext cx="304812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8229600" y="852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1600200"/>
            <a:ext cx="3657600" cy="60948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372360" y="260280"/>
                <a:ext cx="18730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66"/>
                </a:solidFill>
                <a:latin typeface="Arial"/>
              </a:rPr>
              <a:t>A more difficult example</a:t>
            </a:r>
            <a:r>
              <a:rPr b="1" lang="en-US" sz="4800" spc="-1" strike="noStrike">
                <a:solidFill>
                  <a:srgbClr val="660066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209680" y="990720"/>
                <a:ext cx="537840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76320" y="14479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Using elimination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2514600"/>
            <a:ext cx="3048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Multiply (1) by 3 and (2) by 4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452760" y="2635200"/>
            <a:ext cx="3481560" cy="565200"/>
            <a:chOff x="3452760" y="2635200"/>
            <a:chExt cx="3481560" cy="565200"/>
          </a:xfrm>
        </p:grpSpPr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3452760" y="2736720"/>
                  <a:ext cx="230364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4" name=""/>
            <p:cNvSpPr/>
            <p:nvPr/>
          </p:nvSpPr>
          <p:spPr>
            <a:xfrm>
              <a:off x="6172200" y="263520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9900"/>
                  </a:solidFill>
                  <a:latin typeface="Arial"/>
                </a:rPr>
                <a:t>(1’)</a:t>
              </a:r>
              <a:endParaRPr b="0" lang="en-US" sz="2600" spc="-1" strike="noStrike">
                <a:solidFill>
                  <a:srgbClr val="0099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733920" y="1752480"/>
            <a:ext cx="3209760" cy="997200"/>
            <a:chOff x="3733920" y="1752480"/>
            <a:chExt cx="3209760" cy="997200"/>
          </a:xfrm>
        </p:grpSpPr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3746520" y="1828800"/>
                  <a:ext cx="204480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7" name=""/>
            <p:cNvSpPr/>
            <p:nvPr/>
          </p:nvSpPr>
          <p:spPr>
            <a:xfrm>
              <a:off x="6172200" y="175248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9900"/>
                  </a:solidFill>
                  <a:latin typeface="Arial"/>
                </a:rPr>
                <a:t>(1)</a:t>
              </a:r>
              <a:endParaRPr b="0" lang="en-US" sz="2600" spc="-1" strike="noStrike">
                <a:solidFill>
                  <a:srgbClr val="0099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81560" y="216540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9900"/>
                  </a:solidFill>
                  <a:latin typeface="Arial"/>
                </a:rPr>
                <a:t>(2)</a:t>
              </a:r>
              <a:endParaRPr b="0" lang="en-US" sz="2600" spc="-1" strike="noStrike">
                <a:solidFill>
                  <a:srgbClr val="0099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3733920" y="2286000"/>
                  <a:ext cx="186696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0" name=""/>
          <p:cNvGrpSpPr/>
          <p:nvPr/>
        </p:nvGrpSpPr>
        <p:grpSpPr>
          <a:xfrm>
            <a:off x="3581280" y="3092400"/>
            <a:ext cx="3429000" cy="565200"/>
            <a:chOff x="3581280" y="3092400"/>
            <a:chExt cx="3429000" cy="565200"/>
          </a:xfrm>
        </p:grpSpPr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3581280" y="3193920"/>
                  <a:ext cx="198432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2" name=""/>
            <p:cNvSpPr/>
            <p:nvPr/>
          </p:nvSpPr>
          <p:spPr>
            <a:xfrm>
              <a:off x="6248520" y="3092400"/>
              <a:ext cx="76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9900"/>
                  </a:solidFill>
                  <a:latin typeface="Arial"/>
                </a:rPr>
                <a:t>(2’)</a:t>
              </a:r>
              <a:endParaRPr b="0" lang="en-US" sz="2600" spc="-1" strike="noStrike">
                <a:solidFill>
                  <a:srgbClr val="0099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048120" y="3657600"/>
            <a:ext cx="38862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3581280"/>
            <a:ext cx="2362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Subtract (2’) from (1’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733920" y="3714840"/>
                <a:ext cx="22096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495680" y="4065480"/>
                <a:ext cx="11876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57200" y="4724280"/>
            <a:ext cx="2895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Substitute into (1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276720" y="4718160"/>
                <a:ext cx="245268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114800" y="5181480"/>
                <a:ext cx="22543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4425840" y="5562720"/>
                <a:ext cx="12891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124080" y="6095880"/>
            <a:ext cx="525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refore the solution is (-4, -2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2743200"/>
            <a:ext cx="2743200" cy="38088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4114800"/>
            <a:ext cx="2743200" cy="38088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9880" y="5638680"/>
            <a:ext cx="2743200" cy="38124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057400" y="228600"/>
                <a:ext cx="5378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228600" y="6094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Using substitution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2920" y="1828800"/>
            <a:ext cx="1904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From (2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648320" y="762120"/>
            <a:ext cx="3209760" cy="996480"/>
            <a:chOff x="4648320" y="762120"/>
            <a:chExt cx="3209760" cy="996480"/>
          </a:xfrm>
        </p:grpSpPr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4660920" y="838080"/>
                  <a:ext cx="204480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"/>
            <p:cNvSpPr/>
            <p:nvPr/>
          </p:nvSpPr>
          <p:spPr>
            <a:xfrm>
              <a:off x="7086600" y="76212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9900"/>
                  </a:solidFill>
                  <a:latin typeface="Arial"/>
                </a:rPr>
                <a:t>(1)</a:t>
              </a:r>
              <a:endParaRPr b="0" lang="en-US" sz="2600" spc="-1" strike="noStrike">
                <a:solidFill>
                  <a:srgbClr val="0099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95960" y="117468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9900"/>
                  </a:solidFill>
                  <a:latin typeface="Arial"/>
                </a:rPr>
                <a:t>(2)</a:t>
              </a:r>
              <a:endParaRPr b="0" lang="en-US" sz="2600" spc="-1" strike="noStrike">
                <a:solidFill>
                  <a:srgbClr val="0099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4648320" y="1295280"/>
                  <a:ext cx="186696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3" name=""/>
          <p:cNvSpPr/>
          <p:nvPr/>
        </p:nvSpPr>
        <p:spPr>
          <a:xfrm>
            <a:off x="380880" y="2514600"/>
            <a:ext cx="2895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Substitute (2’) into (1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3429000" y="2362320"/>
                <a:ext cx="33289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342040" y="3886200"/>
                <a:ext cx="1973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5410080" y="4343400"/>
                <a:ext cx="12891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3124080" y="609588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refore the solution is (–4, –2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334120" y="1752480"/>
                <a:ext cx="2057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676680" y="3352680"/>
                <a:ext cx="302904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457200" y="4448160"/>
            <a:ext cx="3200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Substitute </a:t>
            </a:r>
            <a:r>
              <a:rPr b="1" i="1" lang="en-US" sz="2600" spc="-1" strike="noStrike">
                <a:solidFill>
                  <a:srgbClr val="009900"/>
                </a:solidFill>
                <a:latin typeface="Arial"/>
              </a:rPr>
              <a:t>y</a:t>
            </a: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 = -2 into (2’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410080" y="4713120"/>
                <a:ext cx="236232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486400" y="5486400"/>
                <a:ext cx="1219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7467480" y="1919160"/>
            <a:ext cx="68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(2’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1752480"/>
            <a:ext cx="2209680" cy="83844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880" y="18284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Complete the questions on the worksheet</a:t>
            </a: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We wish to thank our supporters: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752560" y="3043080"/>
            <a:ext cx="363888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533520"/>
            <a:ext cx="6781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Solving Simultaneous Equations</a:t>
            </a:r>
            <a:endParaRPr b="1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29000" y="2209320"/>
            <a:ext cx="5029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To solve simultaneous equations you need to have the same number of equations as you have unknowns.</a:t>
            </a:r>
            <a:endParaRPr b="0" lang="en-US" sz="26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We will consider cases where we have two equations and two unknowns</a:t>
            </a:r>
            <a:endParaRPr b="0" lang="en-US" sz="26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rial Narrow"/>
              </a:rPr>
              <a:t>Elimination Method</a:t>
            </a: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16002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Best used when  you have equations in the form: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911320" y="2514600"/>
                <a:ext cx="38102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868480" y="3440160"/>
                <a:ext cx="40928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2133720" y="4724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Label the equations (1) and 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3581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724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1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272120" y="685800"/>
                <a:ext cx="33210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343400" y="1376280"/>
                <a:ext cx="34290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228600" y="457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hich variable has the same coefficient?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1066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089080"/>
            <a:ext cx="41911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s the sign of </a:t>
            </a:r>
            <a:r>
              <a:rPr b="1" i="1" lang="en-US" sz="26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is the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ame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 we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subtract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equation (2) from equation (1)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53280" y="68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153280" y="1371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2176560"/>
            <a:ext cx="38862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1690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3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392720" y="2209680"/>
                <a:ext cx="34560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187960" y="2971800"/>
                <a:ext cx="26607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791320" y="3570120"/>
                <a:ext cx="1841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76320" y="3214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6576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 is eliminated, solve for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4129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5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4572000"/>
            <a:ext cx="41911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Substitute the value for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1" i="1" lang="en-US" sz="2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into equation (1) and solve for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748040" y="4392720"/>
                <a:ext cx="29480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943600" y="5105520"/>
                <a:ext cx="14479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733920" y="5867280"/>
            <a:ext cx="525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refore the solution is (1, 2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2286000"/>
            <a:ext cx="3657600" cy="60948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5791320"/>
            <a:ext cx="1066680" cy="68580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66"/>
                </a:solidFill>
                <a:latin typeface="Arial Narrow"/>
              </a:rPr>
              <a:t>What does the solution mean ?</a:t>
            </a:r>
            <a:endParaRPr b="1" lang="en-US" sz="3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447920"/>
            <a:ext cx="624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We had two equations and two unknowns, </a:t>
            </a:r>
            <a:r>
              <a:rPr b="0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 and  </a:t>
            </a:r>
            <a:r>
              <a:rPr b="0" i="1" lang="en-US" sz="3200" spc="-1" strike="noStrike">
                <a:solidFill>
                  <a:srgbClr val="0099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066680" y="2666880"/>
            <a:ext cx="7418520" cy="711360"/>
            <a:chOff x="1066680" y="2666880"/>
            <a:chExt cx="7418520" cy="711360"/>
          </a:xfrm>
        </p:grpSpPr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1066680" y="2666880"/>
                  <a:ext cx="2819520" cy="71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5334120" y="2666880"/>
                  <a:ext cx="3151080" cy="69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"/>
            <p:cNvSpPr/>
            <p:nvPr/>
          </p:nvSpPr>
          <p:spPr>
            <a:xfrm>
              <a:off x="4114800" y="271764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00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0099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362320" y="3733920"/>
            <a:ext cx="579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he solution (1, 2) gives the values of </a:t>
            </a:r>
            <a:r>
              <a:rPr b="0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that will make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both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sentences true.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 Narrow"/>
              </a:rPr>
              <a:t>Another example</a:t>
            </a:r>
            <a:endParaRPr b="1" lang="en-US" sz="3600" spc="-1" strike="noStrike">
              <a:solidFill>
                <a:srgbClr val="660066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747880" y="1219320"/>
                <a:ext cx="403380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048120" y="1981080"/>
                <a:ext cx="408924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932120" y="326556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Label the equations (1) and (2)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70800" y="128412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70800" y="2122560"/>
            <a:ext cx="10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5600" y="32655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ep 1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05120" y="431784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Which variable has the same coefficient?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51055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42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ep 2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1143000"/>
            <a:ext cx="40384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s the sign of the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1" i="1" lang="en-US" sz="26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 is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 we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equation (2) to equation (1)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58200" y="380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458200" y="1157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1828800"/>
            <a:ext cx="38862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685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3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824360" y="1949400"/>
                <a:ext cx="3176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796000" y="2514600"/>
                <a:ext cx="21286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075360" y="3092400"/>
                <a:ext cx="18493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76320" y="23623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819520"/>
            <a:ext cx="441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 is eliminated, solve for </a:t>
            </a:r>
            <a:r>
              <a:rPr b="1" i="1" lang="en-US" sz="2600" spc="-1" strike="noStrike">
                <a:solidFill>
                  <a:srgbClr val="0099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320" y="3429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5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3809880"/>
            <a:ext cx="41911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Substitute the value for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i="1" lang="en-US" sz="2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into equation (1) and solve for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505400" y="4038480"/>
                <a:ext cx="3114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072120" y="4495680"/>
                <a:ext cx="17766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3733920" y="5867280"/>
            <a:ext cx="525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refore the solution is (-2, 4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267080" y="457200"/>
                <a:ext cx="33530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572000" y="1143000"/>
                <a:ext cx="3673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248520" y="4925880"/>
                <a:ext cx="13366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4572000" y="1943280"/>
            <a:ext cx="3657600" cy="60948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72400" y="5867280"/>
            <a:ext cx="1143000" cy="53352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 Narrow"/>
              </a:rPr>
              <a:t>A more difficult example</a:t>
            </a:r>
            <a:endParaRPr b="1" lang="en-US" sz="3600" spc="-1" strike="noStrike">
              <a:solidFill>
                <a:srgbClr val="660066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616120" y="1143000"/>
                <a:ext cx="3989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895480" y="1905120"/>
                <a:ext cx="38386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932120" y="2895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Label the equations (1) and (2)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70800" y="128412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70800" y="2122560"/>
            <a:ext cx="10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" y="2895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ep 1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80988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Which variable has the same coefficient?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43434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either</a:t>
            </a:r>
            <a:endParaRPr b="0" lang="en-US" sz="3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3809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ep 2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5105520"/>
            <a:ext cx="662940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We can make </a:t>
            </a:r>
            <a:r>
              <a:rPr b="1" i="1" lang="en-US" sz="34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have the same coefficient if we multiply equation (2) by 2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4419720"/>
            <a:ext cx="2819160" cy="60948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2280" y="11430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s the sign is the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ame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 we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ubtract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equation (2’) from equation (1)</a:t>
            </a:r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380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157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2’)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1828800"/>
            <a:ext cx="38862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685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3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410080" y="1905120"/>
                <a:ext cx="28432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095880" y="2514600"/>
                <a:ext cx="17528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76320" y="23623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8195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 is eliminated, solve for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3429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tep 5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3809880"/>
            <a:ext cx="41907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Substitute the value for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1" i="1" lang="en-US" sz="2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into equation (2) and solve for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272200" y="3886200"/>
                <a:ext cx="28400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715000" y="4343400"/>
                <a:ext cx="24433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3733920" y="5867280"/>
            <a:ext cx="525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Therefore the solution is (-4, 6)</a:t>
            </a:r>
            <a:endParaRPr b="0" lang="en-US" sz="2600" spc="-1" strike="noStrike">
              <a:solidFill>
                <a:srgbClr val="0099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553080" y="4800600"/>
                <a:ext cx="1589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341960" y="428760"/>
                <a:ext cx="36846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368960" y="1066680"/>
                <a:ext cx="37335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724280" y="1943280"/>
            <a:ext cx="3657600" cy="60948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72400" y="5791320"/>
            <a:ext cx="990720" cy="609480"/>
          </a:xfrm>
          <a:prstGeom prst="rect">
            <a:avLst/>
          </a:prstGeom>
          <a:solidFill>
            <a:srgbClr val="e3d5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1T03:54:31Z</dcterms:created>
  <dc:creator>Academic PowerPoint</dc:creator>
  <dc:description/>
  <dc:language>en-US</dc:language>
  <cp:lastModifiedBy>Default</cp:lastModifiedBy>
  <dcterms:modified xsi:type="dcterms:W3CDTF">2005-09-08T10:16:26Z</dcterms:modified>
  <cp:revision>63</cp:revision>
  <dc:subject>Mathematics</dc:subject>
  <dc:title>Simultaneous Equations</dc:title>
</cp:coreProperties>
</file>